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7961-8E84-4FE7-AFD7-A60DF0C0CB3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9A7D-2F55-49C6-8343-CA088ECC006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28A7-95F5-40B5-B58F-96AEF434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846-B7FA-44D6-8D75-070C7C7A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0E2-3261-485B-B25D-ED3FB347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FB3-E735-41D5-8ABD-B5424FA4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212-06FE-48F2-8D07-F564B126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19F2-DC7C-4E07-8116-8455D177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D05D-C04E-4556-945F-04D47EC6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D1D-185A-4421-BE9B-A98F1D80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CFF-E593-4904-892B-2A529497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A19-4881-412C-81AC-302B4E82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6431-874C-42DC-BFAD-451B912B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8CAD-23EF-4D36-8632-12C539A2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9718-54D5-4A24-BBA2-9A48448801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400"/>
                <a:gridCol w="768600"/>
                <a:gridCol w="457200"/>
                <a:gridCol w="766440"/>
                <a:gridCol w="64800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1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五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06T07:02:19Z</dcterms:modified>
  <cp:revision>18</cp:revision>
  <dc:subject/>
  <dc:title>PowerPoint 演示文稿</dc:title>
</cp:coreProperties>
</file>