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CBE8-6F79-47A6-8841-26958C4E3B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1ED-B003-4B1C-809B-2D4592401D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0FF-0DFC-446C-AE31-A4FC22F3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3B7-8F17-4A10-8176-C27405C5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CC4-DA2D-4DE0-8615-57030F9B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6C5-5D8F-4B28-B7F8-F3345E91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46D-8049-4731-95A5-626E98F2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13F-03AD-418D-BD73-C382C351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D96-D727-4AAF-8963-4CF1BB1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350-5B9B-427B-A332-9FA54D4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FD1-7B42-46B2-B793-6A90408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1CF-163D-4A55-AE64-8DD562E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674-E933-4E64-835F-66B5BF1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DBB-418F-44AC-8E72-0EC5B0E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A06-00CA-40D6-A610-8A112CF4B3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拟在华工作时间：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3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4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5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45600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0-22T08:29:07Z</dcterms:modified>
  <cp:revision>21</cp:revision>
  <dc:subject/>
  <dc:title>PowerPoint 演示文稿</dc:title>
</cp:coreProperties>
</file>